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3F49-D249-41E2-91CC-B7C6810A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0E26-730D-4999-B204-0CAB4207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D25-97A4-43BC-B62C-D34E13B4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C5BA-A6DF-41DD-929C-F7B75C46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A0E-43CB-4B1F-895A-EC99BE98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FBF4-09F9-4F0B-BF79-4E816DD5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E7E7-2D45-49C1-9B3A-1A935457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16A4-8F1D-4594-A255-663F5684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367-8A5B-4ACE-B9B7-8E57A6CC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0675-612B-40BF-B5F6-35FA137D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145-8BF2-455F-9156-E5AEB926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A18B-F5CD-4F4E-927A-A56A8D6B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7925-6DC6-4676-A759-BD8A024DDA55}" type="slidenum">
              <a:rPr b="0" lang="ar-L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84720" y="0"/>
            <a:ext cx="5410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00"/>
                </a:solidFill>
                <a:uFillTx/>
                <a:latin typeface="Tahoma"/>
                <a:cs typeface="Diwany6 Normal"/>
              </a:rPr>
              <a:t>نشيد الدخول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Tahoma"/>
                <a:cs typeface="Tahoma"/>
              </a:rPr>
              <a:t>يا أول النب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4437000"/>
            <a:ext cx="83883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يا أول النبع يا آخر الـمد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213000"/>
            <a:ext cx="914400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خالق الجمال والبحر والصد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76720" y="1773360"/>
            <a:ext cx="586728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كيولي عن حبك البعدو عم يرويني وحدو اللي رح يبق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76720" y="2060640"/>
            <a:ext cx="586728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رّة بهالزمان دخلت عا قلبي وغمرني نورك ورحل النسيا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916280"/>
            <a:ext cx="500364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ضحكِة عينيّي وصّل صداها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عند السم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فرح الجنّ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4508640"/>
            <a:ext cx="8388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يا أول النبع يا آخر الـمد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2708280"/>
            <a:ext cx="914400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خالق الجمال والبحر والصد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76720" y="1773360"/>
            <a:ext cx="586728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كيولي عن حبك البعدو عم يرويني وحدو اللي رح يبق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9:09:52Z</dcterms:created>
  <dc:creator>Charbel Azar</dc:creator>
  <dc:description/>
  <dc:language>en-US</dc:language>
  <cp:lastModifiedBy>ف</cp:lastModifiedBy>
  <dcterms:modified xsi:type="dcterms:W3CDTF">2006-11-28T23:10:22Z</dcterms:modified>
  <cp:revision>8</cp:revision>
  <dc:subject/>
  <dc:title>Slide 1</dc:title>
</cp:coreProperties>
</file>